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E88-9FE3-4227-817A-B32F1603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B92-75D8-4980-87D6-04FF7DDA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667-DC9B-483A-BF07-58DDE35C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06A-2CC3-445F-A37A-4D7DD0AD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AB7-9CF4-437B-BACF-69917F8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CFC-8DC5-455F-B418-F7BC45D3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79F-2CA4-4391-9D81-EDE74EE2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C4B-1CA0-4C83-8A53-103C247D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AE7-0D4D-468E-933F-A99BA6D0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31D-EA70-4CD0-B34D-2D780D2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994-A06D-4EC2-AE87-5D4BE59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883-B342-4AF0-A5F8-8663194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B1A8-8029-42F8-9957-0A214414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The equation of the vibrations of the note F above middle C is represented b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5 sin 69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π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etermine the amplitude and period for the function.  Explain why it would be difficult to graph this function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co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i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3497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3885840" y="3124080"/>
            <a:ext cx="5257800" cy="1274760"/>
            <a:chOff x="3885840" y="3124080"/>
            <a:chExt cx="5257800" cy="1274760"/>
          </a:xfrm>
        </p:grpSpPr>
        <p:sp>
          <p:nvSpPr>
            <p:cNvPr id="80" name=""/>
            <p:cNvSpPr/>
            <p:nvPr/>
          </p:nvSpPr>
          <p:spPr>
            <a:xfrm>
              <a:off x="548640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8584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State the amplitude, period, and graph the function: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-4 cos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πx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14040" y="2971800"/>
            <a:ext cx="5257800" cy="1343160"/>
            <a:chOff x="914040" y="2971800"/>
            <a:chExt cx="5257800" cy="1343160"/>
          </a:xfrm>
        </p:grpSpPr>
        <p:sp>
          <p:nvSpPr>
            <p:cNvPr id="46" name=""/>
            <p:cNvSpPr/>
            <p:nvPr/>
          </p:nvSpPr>
          <p:spPr>
            <a:xfrm>
              <a:off x="2514600" y="29718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914040" y="35474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, period, translation, and graph the function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040" y="3429000"/>
            <a:ext cx="5257800" cy="1343160"/>
            <a:chOff x="914040" y="3429000"/>
            <a:chExt cx="5257800" cy="1343160"/>
          </a:xfrm>
        </p:grpSpPr>
        <p:sp>
          <p:nvSpPr>
            <p:cNvPr id="51" name=""/>
            <p:cNvSpPr/>
            <p:nvPr/>
          </p:nvSpPr>
          <p:spPr>
            <a:xfrm>
              <a:off x="2514600" y="34290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914040" y="40046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18960" y="3733920"/>
            <a:ext cx="5257800" cy="1274760"/>
            <a:chOff x="1218960" y="3733920"/>
            <a:chExt cx="5257800" cy="1274760"/>
          </a:xfrm>
        </p:grpSpPr>
        <p:sp>
          <p:nvSpPr>
            <p:cNvPr id="55" name=""/>
            <p:cNvSpPr/>
            <p:nvPr/>
          </p:nvSpPr>
          <p:spPr>
            <a:xfrm>
              <a:off x="281952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1896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794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sin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94920" y="3733920"/>
            <a:ext cx="5257800" cy="1274760"/>
            <a:chOff x="1294920" y="3733920"/>
            <a:chExt cx="5257800" cy="1274760"/>
          </a:xfrm>
        </p:grpSpPr>
        <p:sp>
          <p:nvSpPr>
            <p:cNvPr id="61" name=""/>
            <p:cNvSpPr/>
            <p:nvPr/>
          </p:nvSpPr>
          <p:spPr>
            <a:xfrm>
              <a:off x="289548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29492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1/3 cos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1760" y="3124080"/>
            <a:ext cx="5257800" cy="1274760"/>
            <a:chOff x="761760" y="3124080"/>
            <a:chExt cx="5257800" cy="1274760"/>
          </a:xfrm>
        </p:grpSpPr>
        <p:sp>
          <p:nvSpPr>
            <p:cNvPr id="66" name=""/>
            <p:cNvSpPr/>
            <p:nvPr/>
          </p:nvSpPr>
          <p:spPr>
            <a:xfrm>
              <a:off x="236232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6176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termine whether the equation for the graph shown has the 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). Then 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 Write an equation of the sine function with amplitude 30, period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and vertical shift -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Write an equation of the cosine function with amplitude 3.5, peri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and vertical shif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4:43:54Z</dcterms:created>
  <dc:creator>abeason</dc:creator>
  <dc:description/>
  <dc:language>en-US</dc:language>
  <cp:lastModifiedBy>abeason</cp:lastModifiedBy>
  <dcterms:modified xsi:type="dcterms:W3CDTF">2008-10-23T14:44:10Z</dcterms:modified>
  <cp:revision>1</cp:revision>
  <dc:subject/>
  <dc:title>Slide 1</dc:title>
</cp:coreProperties>
</file>